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37F-4B7B-4258-93F5-177CF006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E38-ED65-4E41-86AE-A6377952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F1E-D58B-4248-AAFE-68AA975F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070-DB9E-4D3C-9CE3-9D05FC46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B289-5E26-4118-B59A-F06C724D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FE45-61D6-41E7-9026-892522D6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105E-A7CF-4399-B87A-19924960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F76E-92AB-4C7A-A625-178600F1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8F44-F22B-4EFB-AFB4-24B3F994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7B99-C735-43E9-9AB0-0C7BB6AD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AF31-DAD6-49D4-95C6-890CAEB4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57E-E41B-4BE6-9193-951C9981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63C5-2C13-43F5-8AEB-C0977B6C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2A96-F03F-414C-853A-4863C5B1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A44C-9E5F-4E7F-AB56-60BAB2A3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0DCE-D66D-49AC-A163-75B71424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766C-F1FB-4A54-8858-45D12322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AF8-FF46-4AAB-BCBE-E193C31A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81D-476C-4E91-A0BB-651D1660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CE3-6C80-44DD-A444-46197751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ADD-1788-4298-BB13-0FA8D7F4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8B1-5DE2-4B5A-B4D2-90D5628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0C1-7F2D-4FF5-94B7-1056687F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FBF-D5BB-4932-9A93-AB76F042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A267-C20D-4119-BD81-2FCD4321E8B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6BD2-45D1-4370-A0BB-2C545BB735C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-1995480"/>
            <a:ext cx="77724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ASPECTOS  MEDICOS  SINDROME X FRAGI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.L. Poch Olivé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H. San Millá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CARACTERISTICAS CLINIC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nifestaciones cardia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latación aórtica  (55%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Prolapso de la válvula mitral (22%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nifestaciones muscula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Hipotonía generaliza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CARACTERISTICAS CLINIC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nifestaciones neurológ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Retraso del desarroll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lteraciones cognitiv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lteraciones de conducta  (Hiperactividad, 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nsiedad, Déficit de Atención, etc.)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tacto ocular esca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Retraso del lenguaje  y comunic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vulsio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Retraso del aprendizaj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HALLAZGOS   EN SISTEMA NERVIOS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isminución tamaño vermis cerebelos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umento tamaño núcleos de la ba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isminución tamaño área front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lteración en conexiones  neuron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PROBLEMAS ESPECIA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roblemas del sueñ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minución de melatoni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Problema obstructivo de vías respiratori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roblemas de integración sensori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Procesamiento de la información visuo-espac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gobio ante caricias, movimientos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gobio en aglomeraciones, ruid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lta sensibilidad visual y al sonid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FENOTIPO CONDUCTU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mponente genético + experienci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ificultad en la integración sensori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brestimu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ductas evitativas visuales, tactiles, auditiv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nsiedad  “social”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FENOTIPO CONDUCTU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Problemas de atención  80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leteo de manos    70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Hiperactividad    70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gobio multitud, ruido  60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Timidez   60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nsiedad social  58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nteracción pobre  57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Tozudez, obsesivo  45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tacto visual pobre  40%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CLINICA EN MUJERES </a:t>
            </a:r>
            <a:br>
              <a:rPr sz="4400"/>
            </a:b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con mutación complet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éficit cognitivo límite o moderado     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(10-70%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éficit de aten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lteraciones del lengu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Trastornos emocion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CLINICA DE LA PREMUTAC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mayoría asintomát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enopausia prec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Temblor cerebeloso en adul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lteraciones emocion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éficit cognitivos sutiles: matemáticas,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ctoescritu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SOSPECHA DIAGNOST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ntecedentes familiares de retras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traso de desarrollo + características físicas y conduc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traso de lenguaje y comunic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Trastornos de conducta similares al autis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iertos casos de déficit de aten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TRATAMIENT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Atención Tempr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Atención psicopedagógi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Atención salud men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ogoped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Fisioterap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sicomotric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edicaciones:  antiepilépticos, ac. Fólico, Carnitina, levadura , ansiolíticos, 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SINDROME  FRAGIL  X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ausa más frecuente de retraso de tipo hereditari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Grado de afectación vari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iagnóstico por genética molecul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FRAXA    varones 1 / 2000        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 portadores   1/800            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 mujeres 1/4000           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 portadoras 1/259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CLINICA “CLASICA” VAR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rimeros años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Retraso del desarroll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Retraso del lengua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repuber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Retraso del lengua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lteraciones de conduct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Déficit cognitivo y de aprendiza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Fenotipo característic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uber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e añade macroorquid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DESARROLLO COGNITIVO Y CONDUCTA  (Varones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etraso desarrollo  (90%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Moderado (80%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ímite  (10%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evero (10%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rastorno del lenguaje y comunicación (90%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iperactividad (65%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caso contacto ocular (80%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Alteraciones del comportamiento (60%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vulsiones  (20%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DESARROLLO COGNITIVO Y CONDUCTA  (mujeres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ificultades de aprendizaje  (20%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etraso moderado   (10%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Alteraciones del lenguaje  (30%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rastornos emocionales  (30%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CARACTERISTICAS FISIC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ara alargada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Frente ampl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Macrocefal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Orejas despegad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Mentón promin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Paladar ojival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Macroorquid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Hiperlaxitud articul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Pliegue único en palm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CARACTERISTICAS CLINIC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nifestaciones endocrin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recimiento:Peso, talla y PC acelerados los primeros añ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Macroorquidia  &gt; 8- 9 añ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Obesidad  (en algunos caso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función ovárica en mujeres con mut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Menopausia precoz en mujeres con premut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CARACTERISTICAS CLINIC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nifestaciones  ORL  (54%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Otitis medias recurr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Hipertrofia de adenoid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minución de la audi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escartar siempre cuando aumenta la irrita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nifestaciones oftalmológicas (43%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Estrabism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lteraciones de refrac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CARACTERISTICAS CLINIC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nifestaciones cutáne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Piel suave y lis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esiones por mordeduras (ansiedad elevad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nifestaciones osteoarticula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Hiperextens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Pies plano val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uxación de cade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Escolios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13:16:03Z</dcterms:created>
  <dc:creator>C.H. San Millán - San Pedro </dc:creator>
  <dc:description/>
  <dc:language>en-US</dc:language>
  <cp:lastModifiedBy> xxxxxxxxxxxxxxxxxx</cp:lastModifiedBy>
  <dcterms:modified xsi:type="dcterms:W3CDTF">2003-05-15T15:04:45Z</dcterms:modified>
  <cp:revision>8</cp:revision>
  <dc:subject/>
  <dc:title>ASPECTOS  MEDICOS  SINDROME X FRAGIL</dc:title>
</cp:coreProperties>
</file>